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E448C-B045-4092-8B93-569B670ED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7293F-E2E3-4179-B7CF-FB4CDF430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DBF25-12A3-4927-B979-4E5E1B12D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F3C6F-AEDA-46D9-8941-A763452FD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7595F-AE8E-4267-AED5-DFDCBB286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062AB-862F-4DA3-B6C9-02830707E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71044-B456-4D72-9C94-9E4728A52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FCC61-7C7B-4FBE-9448-0E774D0EA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2F589-9636-425C-B51C-A48D74F45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6D7BE-A4A2-4BA3-92D2-65B0E46F9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8B004-DA6D-40E6-AA33-9FF718018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AB0D8-7957-489C-A8CF-E619E2035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ACDB-46CE-4349-A578-B170C925FA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bs.com.au/gold/" TargetMode="External"/><Relationship Id="rId3" Type="http://schemas.openxmlformats.org/officeDocument/2006/relationships/hyperlink" Target="http://en.wikipedia.org/wiki/Main_Page" TargetMode="External"/><Relationship Id="rId4" Type="http://schemas.openxmlformats.org/officeDocument/2006/relationships/hyperlink" Target="http://www.cap.nsw.edu.au/bb_site_intro/stage2_modules/bushrangers/bushrangers.htm" TargetMode="External"/><Relationship Id="rId5" Type="http://schemas.openxmlformats.org/officeDocument/2006/relationships/hyperlink" Target="http://www.wilmap.com.au/bushrangers.html"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au/imgres?imgurl=http://upload.wikimedia.org/wikipedia/commons/3/37/Ben_Hall_Bushranger.jpg&amp;imgrefurl=http://commons.wikimedia.org/wiki/File:Ben_Hall_Bushranger.jpg&amp;usg=__2T1KwB9R1L5B9M-we1etlXbAhEs=&amp;h=735&amp;w=600&amp;sz=82&amp;hl=en&amp;start=1&amp;zoom=1&amp;itbs=1&amp;tbnid=l4pgY3MjN2SyrM:&amp;tbnh=141&amp;tbnw=115&amp;prev=/images%3Fq%3Dbushranger%26hl%3Den%26safe%3Dactive%26gbv%3D2%26tbs%3Disch:1"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c100d0"/>
                </a:solidFill>
                <a:latin typeface="Comic Sans MS"/>
              </a:rPr>
              <a:t>Bushrangers on the Goldfiel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y:</a:t>
            </a:r>
            <a:r>
              <a:rPr b="0" lang="en-AU" sz="3200" spc="-1" strike="noStrike">
                <a:solidFill>
                  <a:srgbClr val="c100d0"/>
                </a:solidFill>
                <a:latin typeface="Arial"/>
              </a:rPr>
              <a:t> </a:t>
            </a:r>
            <a:r>
              <a:rPr b="0" lang="en-AU" sz="3200" spc="-1" strike="noStrike">
                <a:solidFill>
                  <a:srgbClr val="000000"/>
                </a:solidFill>
                <a:latin typeface="Arial"/>
              </a:rPr>
              <a:t>Joseph Luu 5 Gold 2010</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omic Sans MS"/>
              </a:rPr>
              <a:t>Captain Midnight (Thomas Smith)</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ptain Midnight began his criminal life when he was sentences to jail for 5 years for thieving catt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e escaped 1 year later and started his own gang, but soon he found himself locked up again but this time for 6 and a half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e died when he was back to prison.</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Bibliography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sbs.com.au/go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en.wikipedia.org/wiki/Main_P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www.cap.nsw.edu.au/bb_site_intro/stage2_modules/bushrangers/bushrangers.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http://www.wilmap.com.au/bushrangers.htm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watch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guess this is the end of my gold pro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a:hlinkClick r:id="rId2"/>
          </p:cNvPr>
          <p:cNvPicPr/>
          <p:nvPr/>
        </p:nvPicPr>
        <p:blipFill>
          <a:blip r:embed="rId3"/>
          <a:stretch/>
        </p:blipFill>
        <p:spPr>
          <a:xfrm>
            <a:off x="228600" y="3429000"/>
            <a:ext cx="2549520" cy="3124080"/>
          </a:xfrm>
          <a:prstGeom prst="rect">
            <a:avLst/>
          </a:prstGeom>
          <a:ln w="0">
            <a:noFill/>
          </a:ln>
        </p:spPr>
      </p:pic>
      <p:pic>
        <p:nvPicPr>
          <p:cNvPr id="71" name="" descr=""/>
          <p:cNvPicPr/>
          <p:nvPr/>
        </p:nvPicPr>
        <p:blipFill>
          <a:blip r:embed="rId4"/>
          <a:stretch/>
        </p:blipFill>
        <p:spPr>
          <a:xfrm>
            <a:off x="6172200" y="3352680"/>
            <a:ext cx="250200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mic Sans MS"/>
              </a:rPr>
              <a:t>What are Bushrangers?</a:t>
            </a:r>
            <a:r>
              <a:rPr b="0" lang="en-AU" sz="4400" spc="-1" strike="noStrike">
                <a:solidFill>
                  <a:srgbClr val="000000"/>
                </a:solidFill>
                <a:latin typeface="Arial Black"/>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are thieves and convicts who are against the law, robbing small town banks or coach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are people that wanted revenge on the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are also called the Old West Outlaw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mic Sans MS"/>
              </a:rPr>
              <a:t>What did bushrangers do?</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ambush and kill people who have a variety of rare items that can be sto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use weapons to ambush and kill diggers and miners that have go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mic Sans MS"/>
              </a:rPr>
              <a:t>What Weapons did they us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sault Rif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nip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isto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volv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arp Rifl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niv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ocket Col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2"/>
          <a:stretch/>
        </p:blipFill>
        <p:spPr>
          <a:xfrm>
            <a:off x="4876920" y="1523880"/>
            <a:ext cx="3429000" cy="2186280"/>
          </a:xfrm>
          <a:prstGeom prst="rect">
            <a:avLst/>
          </a:prstGeom>
          <a:ln w="0">
            <a:noFill/>
          </a:ln>
        </p:spPr>
      </p:pic>
      <p:sp>
        <p:nvSpPr>
          <p:cNvPr id="50"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
        <p:nvSpPr>
          <p:cNvPr id="51"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pic>
        <p:nvPicPr>
          <p:cNvPr id="52" name="" descr=""/>
          <p:cNvPicPr/>
          <p:nvPr/>
        </p:nvPicPr>
        <p:blipFill>
          <a:blip r:embed="rId3"/>
          <a:stretch/>
        </p:blipFill>
        <p:spPr>
          <a:xfrm>
            <a:off x="4800600" y="4064040"/>
            <a:ext cx="3581280" cy="239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mic Sans MS"/>
              </a:rPr>
              <a:t>What Did Bushrangers We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had Beards and Old Boo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ck t’s and Trou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ats, Vests and Hols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ushrangers normally wear old brown clot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2"/>
          <a:stretch/>
        </p:blipFill>
        <p:spPr>
          <a:xfrm>
            <a:off x="6019920" y="4051440"/>
            <a:ext cx="2819160" cy="257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omic Sans MS"/>
              </a:rPr>
              <a:t>Were the bushrangers involved in the Eureka Stockad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ome bushrangers were involved in the Eureka Stockade because they knew there gold there and so they decided to steal some and rob them from the governor. Bushrangers ambush people that walk around the bushes with gold then they strike and kill the person and steal their g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mic Sans MS"/>
              </a:rPr>
              <a:t>Here are some bushrangers</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d Kel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lexander Pea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enjamin Ha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d Dog Morg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rank Gardin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ptain Midn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ptain Thunderbo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aptain Moon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mic Sans MS"/>
              </a:rPr>
              <a:t>Ned Kelly</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854 – 11 November 188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orn in Victo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d Kelly wore Metal Arm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d Kelly worked with a group called the Kelly Ga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d Kelly was a bushranger but then became an out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e was born in an old Irish fami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omic Sans MS"/>
              </a:rPr>
              <a:t>Mad Dog Morgan ( John Fuller)</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d Dog Morgan became a bushranger when he was 30 years old from 1863 to 18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ad Dog Morgan was one of the most vicious and callous bushrangers in Australian 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is career ended when he was shot by some station employe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9T03:18:43Z</dcterms:created>
  <dc:creator>joseph_luu</dc:creator>
  <dc:description/>
  <dc:language>en-US</dc:language>
  <cp:lastModifiedBy>joseph_luu</cp:lastModifiedBy>
  <dcterms:modified xsi:type="dcterms:W3CDTF">2010-09-15T04:50:50Z</dcterms:modified>
  <cp:revision>11</cp:revision>
  <dc:subject/>
  <dc:title>Slide 1</dc:title>
</cp:coreProperties>
</file>